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8ED-3B2C-4CD6-8E57-23341897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FD5-552A-4B94-A64B-563CE534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DAD-453A-4821-BC6E-4E232210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2C3-0570-4C2C-AFD3-9BC183E4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5953-BDE9-4612-BB42-EA540FDD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6FFB-5D00-474A-8EE5-79433A5D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AE69-79A6-4903-9B1D-A143E530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3963-2CEB-4591-8276-ECE72BDD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D44F-0B4E-446B-9342-6505C6EC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B2D3-8388-4ADF-BFD7-D4100B6D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01EA-11E2-45BD-BC08-1FBE3DDE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4D58-CBFF-4A3D-A877-AB25963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BF43-E5E9-4095-B990-97459112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A8A7-084D-4E1C-87EE-2ABCB6B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E9BE-2926-468A-80D8-A85B65A4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5FF8-39D2-4520-BA5D-5702F89F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9ABF-5AF0-4CE3-90FC-15BCF47E5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B03-B06B-41DC-AD74-3F6C2DC1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B69-B11F-4A54-AF33-14BEB3C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DD0-5FF2-4FBF-92A6-B7CB0318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A0B-0948-4E71-A985-561EB16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10F-D94D-4CA5-B3E8-47F3D33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D753-C03A-43EC-B8B5-B376171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33E-8550-4118-A6BD-AB06991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88D-A9D3-4755-85DE-C6C54BF8A7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1D2-20C9-4F5F-A30C-23DFBC6CAA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Quests: An Overvie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 Eddelyn D. Gupet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lipinas School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from: Patricia B. Ar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he Philippines – Open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WebQu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quiry-based activity developed by Bernie Dodge and Tom March in 1995 at the San Diego Sat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create knowledge products (e.g., report, poster, magazine) out of information found on the Web and in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s higher order thinking skills: analysis, synthesis,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lements of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: sets the stage/establishes the context (creative &amp; motiva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: a doable and interesting “mission” revolves around an open-eneded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: detailed, sequential steps that students must follow to accomplish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: Web and other resources for students to use in order to be able to accomplish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: explains to students how their work will be evalu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: closing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coopera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work 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has a role to play; roles complemen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learn that no one knows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authentic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l-world problem must be solved creatively (no set answ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’ outputs have a real audience (the output is publish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promotes learning through guide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broken down into sub-tasks (pro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are 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tivity is linked to previous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s act as novices working with real exp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a WebQues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velops information literacy and higher 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motes reading and writing across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promotes reflective learning through self-assessment (and peer evalu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37:36Z</dcterms:created>
  <dc:creator>Student's</dc:creator>
  <dc:description/>
  <dc:language>en-US</dc:language>
  <cp:lastModifiedBy>Student's</cp:lastModifiedBy>
  <dcterms:modified xsi:type="dcterms:W3CDTF">2011-01-06T02:43:10Z</dcterms:modified>
  <cp:revision>2</cp:revision>
  <dc:subject/>
  <dc:title>WebQuests: An Overview  Prepared by: Eddelyn D. Gupeteo</dc:title>
</cp:coreProperties>
</file>